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3726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3726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5396040" y="6400800"/>
            <a:ext cx="3747960" cy="18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Myriad Roman"/>
              </a:rPr>
              <a:t>Click to edit the title text format</a:t>
            </a: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0000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1" marL="668520" indent="-257040">
              <a:spcBef>
                <a:spcPts val="901"/>
              </a:spcBef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2" marL="1028520" indent="-205560">
              <a:spcBef>
                <a:spcPts val="901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3" marL="1440000" indent="-205560">
              <a:spcBef>
                <a:spcPts val="901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4" marL="1851480" indent="-205560">
              <a:spcBef>
                <a:spcPts val="901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5" marL="1851480" indent="-205560">
              <a:spcBef>
                <a:spcPts val="901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6" marL="1851480" indent="-205560">
              <a:spcBef>
                <a:spcPts val="901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5" name=""/>
          <p:cNvSpPr/>
          <p:nvPr/>
        </p:nvSpPr>
        <p:spPr>
          <a:xfrm>
            <a:off x="3951720" y="6267600"/>
            <a:ext cx="1217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D058D-5702-4929-A39D-B62CE10C604F}" type="slidenum">
              <a:rPr b="1" lang="en-US" sz="1600" spc="-1" strike="noStrike">
                <a:solidFill>
                  <a:srgbClr val="777777"/>
                </a:solidFill>
                <a:latin typeface="Myriad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396040" y="6324480"/>
            <a:ext cx="3747960" cy="181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Myriad Roman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2" marL="914400" algn="ctr">
              <a:spcBef>
                <a:spcPts val="700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Myriad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Myriad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581280" y="990720"/>
            <a:ext cx="2210040" cy="1719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838080" y="2666880"/>
            <a:ext cx="80010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26668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47920" y="327672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274320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Myriad Roman"/>
              </a:rPr>
              <a:t>RESERVE BANK OF IN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40068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Myriad Roman"/>
              </a:rPr>
              <a:t>PDO – NDS COMPUTERIS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76520" y="511956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Myriad Roman"/>
              </a:rPr>
              <a:t>Revised Report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New Local queue to store Archived Account and Balance information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298440" indent="-2984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Report Service will be modified to store Report data into local Oracle Database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298440" indent="-2984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Application EXE will be modified to fetch Report Information locally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298440" indent="-2984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Oracle database at Member End will be modified to store the related information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151920" y="762120"/>
            <a:ext cx="8991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DESIGN CONSIDERATIONS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Users can see all the archived data from their local Oracle Database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298440" indent="-2984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Users can see the current data from the Host End (DB2 Database)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298440" indent="-2984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Two different options are added to the GUI for viewing the past data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298440" indent="-2984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Host End will send the balances and account information to the new local queue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2984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151920" y="762120"/>
            <a:ext cx="8991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WORKING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Myriad Roman"/>
              </a:rPr>
              <a:t>THANK YOU</a:t>
            </a:r>
            <a:endParaRPr b="0" lang="en-US" sz="44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 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CURRENT ARCHITECTURE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REQUIREMENT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REVISED ARCHITECTURE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DESIGN CONSIDERATIONS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57200"/>
            <a:ext cx="8153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REVISED REPORT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CURRENT ARCHITECTURE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28800" y="17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62120" y="1523880"/>
          <a:ext cx="7696080" cy="45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23880"/>
                    <a:ext cx="7696080" cy="45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CURRENT ARCHITECTURE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-36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On-Demand Report Processing at the Central Server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Report is stored as Data File on the Member Server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Report processing query consumes high usage of CPU resources 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83772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REQUIREMENTS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Market Participants should get same Report Information without causing High CPU Utilization at Host End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Transaction throughput should be within acceptable limits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80520" y="1676160"/>
            <a:ext cx="8331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The selected reports will be available locally from Oracle database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At EOD (Host side)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Calculate balances of each ISIN for all members 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Send balances to corresponding Members through MQ Series.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2" marL="11430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REVISED ARCHITECTURE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6676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At EOD (contd.)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At Member End, Report Service will read the Report messages and store data into local Oracle Database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Report Request will be processed locally on the Oracle Database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REVISED ARCHITECTURE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REVISED ARCHITECTURE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2880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62120" y="1752480"/>
          <a:ext cx="7010280" cy="422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752480"/>
                    <a:ext cx="7010280" cy="422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228600" y="18288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At EOD, Host will populate Balances of each ISIN for each member.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MQ Message format will be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Separate Report Type for EOD Member End Report 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DESIGN CONSIDERATIONS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5800" y="3733920"/>
          <a:ext cx="8229600" cy="58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733920"/>
                    <a:ext cx="8229600" cy="58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9T03:09:27Z</dcterms:created>
  <dc:creator>Dinanath Kholkar</dc:creator>
  <dc:description/>
  <dc:language>en-US</dc:language>
  <cp:lastModifiedBy>Administrator</cp:lastModifiedBy>
  <cp:lastPrinted>2001-09-06T04:03:13Z</cp:lastPrinted>
  <dcterms:modified xsi:type="dcterms:W3CDTF">2005-03-23T07:34:43Z</dcterms:modified>
  <cp:revision>475</cp:revision>
  <dc:subject/>
  <dc:title>Software Project Management</dc:title>
</cp:coreProperties>
</file>